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19C7-9C4F-4357-9665-F5E99C90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7AF-B7A4-4602-AF7E-29113D87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5F8-CDCC-400C-9B60-4E6FA851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157-D8C4-4B99-82D1-8545A948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704-77B0-4A38-879D-EEFA22C1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C1B-6165-499C-A447-7BCB0D7B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891-8BFA-4B61-B857-835000B6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E37-2679-4121-AD8B-28B92050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9AA-C006-4C15-942A-5A7135CF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043-68A8-49E1-AF15-29BB0001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059-2D21-405D-89C8-2D6578BD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464-8255-459B-BD8E-DC485872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4221-D9C2-4C97-97CD-354A037F6B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87280" y="1125360"/>
            <a:ext cx="64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Работа выполнена в рамках проекта: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КТ – </a:t>
            </a:r>
            <a:r>
              <a:rPr b="1" i="1" lang="ru-RU" sz="2800" spc="-1" strike="noStrike">
                <a:solidFill>
                  <a:srgbClr val="3c94e4"/>
                </a:solidFill>
                <a:latin typeface="Arial"/>
              </a:rPr>
              <a:t>«Повышение квалификации различных категорий работников образования и формирование у них базовой педагогической компетентности»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по программе: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«Информационные технологии в деятельности учителя – предме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1"/>
          <p:cNvGrpSpPr/>
          <p:nvPr/>
        </p:nvGrpSpPr>
        <p:grpSpPr>
          <a:xfrm>
            <a:off x="2471040" y="981000"/>
            <a:ext cx="5125320" cy="4515480"/>
            <a:chOff x="2471040" y="981000"/>
            <a:chExt cx="5125320" cy="4515480"/>
          </a:xfrm>
        </p:grpSpPr>
        <p:sp>
          <p:nvSpPr>
            <p:cNvPr id="81" name="Line 4"/>
            <p:cNvSpPr/>
            <p:nvPr/>
          </p:nvSpPr>
          <p:spPr>
            <a:xfrm flipV="1">
              <a:off x="4427640" y="981000"/>
              <a:ext cx="0" cy="37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3132000" y="3573360"/>
              <a:ext cx="446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2471040" y="2612520"/>
              <a:ext cx="2960280" cy="288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39384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1656000" cy="34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 rot="18900000">
            <a:off x="2556000" y="4149360"/>
            <a:ext cx="150480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4500720" y="3645000"/>
            <a:ext cx="318960" cy="43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5"/>
          <a:stretch/>
        </p:blipFill>
        <p:spPr>
          <a:xfrm>
            <a:off x="2700360" y="5373720"/>
            <a:ext cx="32220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6"/>
          <a:stretch/>
        </p:blipFill>
        <p:spPr>
          <a:xfrm>
            <a:off x="7091280" y="3716280"/>
            <a:ext cx="32544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"/>
          <p:cNvPicPr/>
          <p:nvPr/>
        </p:nvPicPr>
        <p:blipFill>
          <a:blip r:embed="rId7"/>
          <a:stretch/>
        </p:blipFill>
        <p:spPr>
          <a:xfrm>
            <a:off x="4572000" y="1125360"/>
            <a:ext cx="2541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Три плоскости, проходящие через оси координат Ох и Оу, Оу и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и Ох, называются координатными плоскостями: Оху, Оу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В прямоугольной системе координат каждой точке М пространства сопоставляется тройка чисел – её коорди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М (х,у,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)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, где х – абсцис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у – ордината, 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- апплик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38520" cy="47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4788000" y="5291280"/>
            <a:ext cx="204768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rcRect l="54642" t="15775" r="13622" b="45834"/>
          <a:stretch/>
        </p:blipFill>
        <p:spPr>
          <a:xfrm>
            <a:off x="324000" y="18900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rcRect l="54428" t="15539" r="15301" b="46075"/>
          <a:stretch/>
        </p:blipFill>
        <p:spPr>
          <a:xfrm>
            <a:off x="5435640" y="18900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rcRect l="54428" t="18512" r="15301" b="46075"/>
          <a:stretch/>
        </p:blipFill>
        <p:spPr>
          <a:xfrm>
            <a:off x="395280" y="378936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rcRect l="53697" t="16538" r="17513" b="46075"/>
          <a:stretch/>
        </p:blipFill>
        <p:spPr>
          <a:xfrm>
            <a:off x="5292720" y="371628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1763640" y="30034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ты точки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826920" y="1052640"/>
            <a:ext cx="7398000" cy="4032000"/>
            <a:chOff x="826920" y="1052640"/>
            <a:chExt cx="7398000" cy="4032000"/>
          </a:xfrm>
        </p:grpSpPr>
        <p:sp>
          <p:nvSpPr>
            <p:cNvPr id="101" name="Rectangle 5"/>
            <p:cNvSpPr/>
            <p:nvPr/>
          </p:nvSpPr>
          <p:spPr>
            <a:xfrm>
              <a:off x="3342240" y="1052640"/>
              <a:ext cx="26632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очка лежи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566720" y="2673360"/>
              <a:ext cx="177552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 о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4821840" y="2673360"/>
              <a:ext cx="34030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 координатной плоск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826920" y="4089960"/>
              <a:ext cx="887400" cy="99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х,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31942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0,0,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496980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y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61534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y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0,y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33716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z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0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2750040" y="1688760"/>
              <a:ext cx="147924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4969800" y="1668960"/>
              <a:ext cx="177552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7044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2454480" y="327636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24544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54136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59736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2050920" y="4076640"/>
            <a:ext cx="9018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0,у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6588000" y="3284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844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979640" y="60213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-3;0);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0;5); 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0;-3;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50920" y="5877000"/>
            <a:ext cx="1784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380120" cy="4227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68360" y="6093000"/>
            <a:ext cx="792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(0;1;1);  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0;1);  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11);  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;1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79480" y="53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50920" y="5373720"/>
            <a:ext cx="201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971640" y="-243000"/>
            <a:ext cx="676908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87280" y="1814400"/>
            <a:ext cx="85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 уроке познакомились с прямоугольной системой координат, научились строить точку по заданным ее координатам и находить координаты точки, изображенной в заданной системе координат. Декартова система координат не единственная. К следующему уроку найти в Интернете другие системы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332000" y="98100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87280" y="1125360"/>
            <a:ext cx="741708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Работу 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ошкарева Галина Фёдо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Учитель высшей квалификационной категор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МОУ – средняя общеобразовательная школа №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Города Искитима, Новосиби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7712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Arial"/>
              </a:rPr>
              <a:t>Прямоугольная система координат в пространст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7"/>
          <p:cNvGrpSpPr/>
          <p:nvPr/>
        </p:nvGrpSpPr>
        <p:grpSpPr>
          <a:xfrm>
            <a:off x="2791080" y="3429000"/>
            <a:ext cx="3796560" cy="2954880"/>
            <a:chOff x="2791080" y="3429000"/>
            <a:chExt cx="3796560" cy="2954880"/>
          </a:xfrm>
        </p:grpSpPr>
        <p:grpSp>
          <p:nvGrpSpPr>
            <p:cNvPr id="47" name="Group 6"/>
            <p:cNvGrpSpPr/>
            <p:nvPr/>
          </p:nvGrpSpPr>
          <p:grpSpPr>
            <a:xfrm>
              <a:off x="2853000" y="3429000"/>
              <a:ext cx="3734640" cy="2804400"/>
              <a:chOff x="2853000" y="3429000"/>
              <a:chExt cx="3734640" cy="2804400"/>
            </a:xfrm>
          </p:grpSpPr>
          <p:sp>
            <p:nvSpPr>
              <p:cNvPr id="48" name="Line 7"/>
              <p:cNvSpPr/>
              <p:nvPr/>
            </p:nvSpPr>
            <p:spPr>
              <a:xfrm flipV="1">
                <a:off x="4143600" y="3429000"/>
                <a:ext cx="0" cy="23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8"/>
              <p:cNvSpPr/>
              <p:nvPr/>
            </p:nvSpPr>
            <p:spPr>
              <a:xfrm>
                <a:off x="3144600" y="5040360"/>
                <a:ext cx="34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9"/>
              <p:cNvSpPr/>
              <p:nvPr/>
            </p:nvSpPr>
            <p:spPr>
              <a:xfrm flipH="1">
                <a:off x="2853000" y="4446000"/>
                <a:ext cx="1845720" cy="178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Picture 10" descr=""/>
            <p:cNvPicPr/>
            <p:nvPr/>
          </p:nvPicPr>
          <p:blipFill>
            <a:blip r:embed="rId1"/>
            <a:stretch/>
          </p:blipFill>
          <p:spPr>
            <a:xfrm>
              <a:off x="3810960" y="3787200"/>
              <a:ext cx="30348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1" descr=""/>
            <p:cNvPicPr/>
            <p:nvPr/>
          </p:nvPicPr>
          <p:blipFill>
            <a:blip r:embed="rId2"/>
            <a:stretch/>
          </p:blipFill>
          <p:spPr>
            <a:xfrm>
              <a:off x="4588200" y="4772160"/>
              <a:ext cx="1277280" cy="2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2" descr=""/>
            <p:cNvPicPr/>
            <p:nvPr/>
          </p:nvPicPr>
          <p:blipFill>
            <a:blip r:embed="rId3"/>
            <a:stretch/>
          </p:blipFill>
          <p:spPr>
            <a:xfrm rot="18900000">
              <a:off x="2700000" y="5398920"/>
              <a:ext cx="116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"/>
            <p:cNvPicPr/>
            <p:nvPr/>
          </p:nvPicPr>
          <p:blipFill>
            <a:blip r:embed="rId4"/>
            <a:stretch/>
          </p:blipFill>
          <p:spPr>
            <a:xfrm>
              <a:off x="4200120" y="5085000"/>
              <a:ext cx="2462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"/>
            <p:cNvPicPr/>
            <p:nvPr/>
          </p:nvPicPr>
          <p:blipFill>
            <a:blip r:embed="rId5"/>
            <a:stretch/>
          </p:blipFill>
          <p:spPr>
            <a:xfrm>
              <a:off x="2811960" y="6159960"/>
              <a:ext cx="2484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"/>
            <p:cNvPicPr/>
            <p:nvPr/>
          </p:nvPicPr>
          <p:blipFill>
            <a:blip r:embed="rId6"/>
            <a:stretch/>
          </p:blipFill>
          <p:spPr>
            <a:xfrm>
              <a:off x="6198480" y="5129280"/>
              <a:ext cx="25092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6" descr=""/>
            <p:cNvPicPr/>
            <p:nvPr/>
          </p:nvPicPr>
          <p:blipFill>
            <a:blip r:embed="rId7"/>
            <a:stretch/>
          </p:blipFill>
          <p:spPr>
            <a:xfrm>
              <a:off x="4255560" y="3518640"/>
              <a:ext cx="195480" cy="17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Высь, ширь, глубь. Лишь три координ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Мимо них где путь? Засов закры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С Пифагором слушай сфер сона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Атомам дли счёт, как Демокр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                                         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В. Брюсов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p_094"/>
          <p:cNvPicPr/>
          <p:nvPr/>
        </p:nvPicPr>
        <p:blipFill>
          <a:blip r:embed="rId1"/>
          <a:stretch/>
        </p:blipFill>
        <p:spPr>
          <a:xfrm>
            <a:off x="6948360" y="5493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75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вести понятие прямоугольной системы координат в простран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Умения и навыки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ыработать умения строить точку по заданным её координатам и находить координаты точки, изображённой в заданной системе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335112"/>
          <p:cNvPicPr/>
          <p:nvPr/>
        </p:nvPicPr>
        <p:blipFill>
          <a:blip r:embed="rId1"/>
          <a:stretch/>
        </p:blipFill>
        <p:spPr>
          <a:xfrm>
            <a:off x="250920" y="1484280"/>
            <a:ext cx="359568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80000" y="620640"/>
            <a:ext cx="536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дея координат зародилась в науке Вавилон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Греции в связи с потребностью географии, астроно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 мореплавания. Во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греческий учёный Гиппар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редложил определять положение точки на зем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верхности с помощью географических координа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широты и долготы, выражаемых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58996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IIV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француз Оресм  перенёс эту идею в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атематику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в. французский учёный Рене Декарт перенёс                                                                                          эту идею в математику, предложив покрывать плоскость    прямоугольной сеткой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Работа М.Эшера отражает идею введения прямоугольной системы координат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d_010"/>
          <p:cNvPicPr/>
          <p:nvPr/>
        </p:nvPicPr>
        <p:blipFill>
          <a:blip r:embed="rId1"/>
          <a:stretch/>
        </p:blipFill>
        <p:spPr>
          <a:xfrm>
            <a:off x="7020000" y="98100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2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03280" y="126828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Если через точку простр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оведены три попарно перпендикулярные прямые, на каждой из 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выбрано направление и выбрана един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змерения отрезков, то говоря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задана система координат в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00853"/>
          <p:cNvPicPr/>
          <p:nvPr/>
        </p:nvPicPr>
        <p:blipFill>
          <a:blip r:embed="rId1"/>
          <a:stretch/>
        </p:blipFill>
        <p:spPr>
          <a:xfrm>
            <a:off x="179280" y="1844640"/>
            <a:ext cx="3181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ямые с выбранными на них направлениями называются осями координат, а их общая точка – началом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х – ось абсцис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у – ось ордин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– ось апплик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5477040" y="3645000"/>
            <a:ext cx="2119320" cy="1956600"/>
            <a:chOff x="5477040" y="3645000"/>
            <a:chExt cx="2119320" cy="1956600"/>
          </a:xfrm>
        </p:grpSpPr>
        <p:grpSp>
          <p:nvGrpSpPr>
            <p:cNvPr id="69" name="Group 16"/>
            <p:cNvGrpSpPr/>
            <p:nvPr/>
          </p:nvGrpSpPr>
          <p:grpSpPr>
            <a:xfrm>
              <a:off x="5477040" y="3645000"/>
              <a:ext cx="2119320" cy="1857960"/>
              <a:chOff x="5477040" y="3645000"/>
              <a:chExt cx="2119320" cy="1857960"/>
            </a:xfrm>
          </p:grpSpPr>
          <p:sp>
            <p:nvSpPr>
              <p:cNvPr id="70" name="Line 17"/>
              <p:cNvSpPr/>
              <p:nvPr/>
            </p:nvSpPr>
            <p:spPr>
              <a:xfrm flipV="1">
                <a:off x="6283800" y="3645000"/>
                <a:ext cx="0" cy="154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8"/>
              <p:cNvSpPr/>
              <p:nvPr/>
            </p:nvSpPr>
            <p:spPr>
              <a:xfrm>
                <a:off x="5747400" y="4712040"/>
                <a:ext cx="1848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H="1">
                <a:off x="5477040" y="4316040"/>
                <a:ext cx="1218600" cy="11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Picture 20" descr=""/>
            <p:cNvPicPr/>
            <p:nvPr/>
          </p:nvPicPr>
          <p:blipFill>
            <a:blip r:embed="rId1"/>
            <a:stretch/>
          </p:blipFill>
          <p:spPr>
            <a:xfrm>
              <a:off x="6104880" y="3882240"/>
              <a:ext cx="16308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1" descr=""/>
            <p:cNvPicPr/>
            <p:nvPr/>
          </p:nvPicPr>
          <p:blipFill>
            <a:blip r:embed="rId2"/>
            <a:stretch/>
          </p:blipFill>
          <p:spPr>
            <a:xfrm>
              <a:off x="6522480" y="4534200"/>
              <a:ext cx="685800" cy="1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2" descr=""/>
            <p:cNvPicPr/>
            <p:nvPr/>
          </p:nvPicPr>
          <p:blipFill>
            <a:blip r:embed="rId3"/>
            <a:stretch/>
          </p:blipFill>
          <p:spPr>
            <a:xfrm rot="18900000">
              <a:off x="5508720" y="4948920"/>
              <a:ext cx="62316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3" descr=""/>
            <p:cNvPicPr/>
            <p:nvPr/>
          </p:nvPicPr>
          <p:blipFill>
            <a:blip r:embed="rId4"/>
            <a:stretch/>
          </p:blipFill>
          <p:spPr>
            <a:xfrm>
              <a:off x="6314040" y="4741560"/>
              <a:ext cx="13212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4" descr=""/>
            <p:cNvPicPr/>
            <p:nvPr/>
          </p:nvPicPr>
          <p:blipFill>
            <a:blip r:embed="rId5"/>
            <a:stretch/>
          </p:blipFill>
          <p:spPr>
            <a:xfrm>
              <a:off x="5568480" y="5453280"/>
              <a:ext cx="13320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5" descr=""/>
            <p:cNvPicPr/>
            <p:nvPr/>
          </p:nvPicPr>
          <p:blipFill>
            <a:blip r:embed="rId6"/>
            <a:stretch/>
          </p:blipFill>
          <p:spPr>
            <a:xfrm>
              <a:off x="7387200" y="4771080"/>
              <a:ext cx="13464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6" descr=""/>
            <p:cNvPicPr/>
            <p:nvPr/>
          </p:nvPicPr>
          <p:blipFill>
            <a:blip r:embed="rId7"/>
            <a:stretch/>
          </p:blipFill>
          <p:spPr>
            <a:xfrm>
              <a:off x="6343920" y="3704400"/>
              <a:ext cx="105120" cy="11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6:16:24Z</dcterms:created>
  <dc:creator>user</dc:creator>
  <dc:description/>
  <dc:language>en-US</dc:language>
  <cp:lastModifiedBy>Owner</cp:lastModifiedBy>
  <dcterms:modified xsi:type="dcterms:W3CDTF">2011-07-09T10:38:45Z</dcterms:modified>
  <cp:revision>28</cp:revision>
  <dc:subject/>
  <dc:title>Прямоугольная система координат в пространстве</dc:title>
</cp:coreProperties>
</file>